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7E5-6767-4B2B-9D72-6EADACB8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DC6D-BEBD-4289-907E-1BD3955A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01F-9F63-49AA-856C-A45A9CD2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ABD-9818-4A4A-BB60-75984901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18A6-DF8E-4DFC-90AF-F32D68674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6CE4-5E23-478E-BB78-D809056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F486-A0C6-46DA-8440-0E13544F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4A20-21D7-4478-99AB-B3804443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6F32-A3BD-4802-ACB2-C90DC9F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FAEF-6BB4-4D2A-A4EA-0FF1FADE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7DDF-1548-411B-B328-A7C1C16C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CFE-2015-407F-9008-0B900985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3C067-FDE3-4178-9C0D-6A11A9FF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5764-EC72-45FE-BCEB-F4466797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A05F-EA34-470A-8441-5C3A1A31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792A-214E-4318-9661-1CB59BC1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074-4679-4641-AC1A-CA249C4A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BD5-BE4B-40EF-ADFC-672C7DA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899-7C94-4634-AEE4-DA6072E2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FAC3-E522-486E-9FFD-974537E5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252-3F8E-4836-9550-83886C75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A16-AE3B-4073-B720-31B059C0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8D0A-B90D-41F7-B15A-255532F6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09C-0798-4DE8-8BAD-4806781F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A3BF-7D2A-456B-860C-A993768A22E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E440-B162-4CA5-B443-AC0A05EAC1B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 B – Types of Group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nd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tockholm Syndr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documented case in 1973, in Stockholm, Swed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robbers held 4 hostages for 6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ostages resisted rescue and refused to testify against their cap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hostage even became romantically involved with one of the rob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05520" y="990720"/>
            <a:ext cx="3429000" cy="4530600"/>
            <a:chOff x="5105520" y="990720"/>
            <a:chExt cx="3429000" cy="45306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5105520" y="990720"/>
              <a:ext cx="342900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5105520" y="990720"/>
              <a:ext cx="342900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171760" y="5410080"/>
            <a:ext cx="33156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3 bank robbery in Swed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ring which the captives assiste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hen later refused to testify again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ir kidnapp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tockholm Syndrome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s that create the syndro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begins after about 3-4 days in cap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tive becomes committed to trying to keep the captor happy – eventually identify with the cap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tor must threaten to kill the ho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ope of 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asional kindnesses by ca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ly isolated from outsid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 to “Battered Wife Syndrom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s will go along with abusive situations if they can see no other way, and they see the abuser in a position of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eeting Needs through Group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Group Function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quality of member’s l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ini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power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riginal self-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ing social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ocacy groups – work on behalf of a cause or princi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-3772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ous Five and the Person’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1240" indent="-49032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ieving others’ suff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profit organizations – tax reb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-414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GO’s (MSF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ctor’s without Bor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Free th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9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0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eeting Needs through Groups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Group Functions continue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ing Social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s that affect a wider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n control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cil of Canadians – lobby politicians to protect Canada’s social programs, promote economic fairness, and preserve Canadian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hieving Environmental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 have a variety of ways to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5080" indent="-3812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peace, Sierra Cl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I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Anthropologist’s Perspectiv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llectivist Outloo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in a group put the group welfare above individual welf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industrial cultures, many Asian cultures, not Nor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itment to a group and level of co-operation with its demands relates to how well and thoroughly the group meets an individual’s nee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group is not meeting our needs we will be less committed or co-oper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e Psychologist’s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rspective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form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person adjusts his or her thoughts and behaviour to match th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examples of extreme con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Temple – 900 simultaneous suicides by cult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41904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 War Criminals – argued that they are not responsible because they were “following ord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76920" y="3733920"/>
            <a:ext cx="4038480" cy="2701800"/>
            <a:chOff x="4876920" y="3733920"/>
            <a:chExt cx="4038480" cy="270180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76920" y="3733920"/>
              <a:ext cx="4038480" cy="27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 txBox="1"/>
            <p:nvPr/>
          </p:nvSpPr>
          <p:spPr>
            <a:xfrm>
              <a:off x="4876920" y="3733920"/>
              <a:ext cx="4038480" cy="270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940360" y="152280"/>
            <a:ext cx="2718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Milgram Conformity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teacher” is actually the volunteer subject of th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arner” and the “experimenter” are a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teacher” must press a button to send an electric shock every time the learner gets a question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3% of the subjects continued even after the “death” of the subject from electric sh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mport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ople will easily conform to AUTHORITY to harm others and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19920" y="1066680"/>
            <a:ext cx="2590560" cy="1828800"/>
            <a:chOff x="6019920" y="1066680"/>
            <a:chExt cx="2590560" cy="182880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19920" y="1066680"/>
              <a:ext cx="259056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 txBox="1"/>
            <p:nvPr/>
          </p:nvSpPr>
          <p:spPr>
            <a:xfrm>
              <a:off x="6019920" y="1066680"/>
              <a:ext cx="25905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3048120"/>
            <a:ext cx="335268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Sociologist’s Perspectiv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ing too strongly with a group can result in non-members seen as lacking skills or wo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” groups and “out” group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Nazis and Jews, Jocks and “Trench Coat Mafia”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147024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3962520"/>
            <a:ext cx="141624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715000" y="1066680"/>
            <a:ext cx="2990880" cy="2273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77880" y="5791320"/>
            <a:ext cx="4655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nch Coat Mafia – Columbine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6080" y="3352680"/>
            <a:ext cx="1803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zis with J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50:56Z</dcterms:created>
  <dc:creator>The Owner</dc:creator>
  <dc:description/>
  <dc:language>en-US</dc:language>
  <cp:lastModifiedBy>Customer</cp:lastModifiedBy>
  <dcterms:modified xsi:type="dcterms:W3CDTF">2010-12-06T19:20:17Z</dcterms:modified>
  <cp:revision>3</cp:revision>
  <dc:subject/>
  <dc:title>Unit 4 B – Types of Groups</dc:title>
</cp:coreProperties>
</file>